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61F-B785-43E7-B874-7D628F49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E8C-7764-445F-8E35-252CB92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431-0205-4A02-8696-CB21D15D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1F2-1268-4FF9-964E-FCA8B50A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8066-0251-4AC8-936B-CE169A5E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EC7E-1319-4C0B-A191-D3F172F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24C3-A8F6-420D-A8AC-6788F5DF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83F-9755-4AEC-B080-1F477D9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723-9029-44C8-B48C-AC7AD94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27FB-BEFB-4EF6-B2C7-57BC2A3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167-5C55-45DE-80D4-7E6A83F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75D-01C6-4EAC-B48E-162ABF65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CA2-4881-4533-90E7-AAA9FFB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040-90E2-48FC-ADD7-89721C3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717-CC3A-4D6E-A8D9-69FA3F7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2CF-7F27-4857-8316-BEC0C9AF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ED1-706A-4425-9471-F1BAF184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498-FAB8-482F-A7B1-9D6DC242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A93-5421-49B6-B299-0FEAD32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968-09DC-4EDC-AF55-DEDDA92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A03-3B99-4045-B70D-AC663F2A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C96-447A-4B7F-BFAF-CCCECBB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804-935B-448F-A05B-C8344F5B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1C8-D8B4-43EB-B013-DA12E21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AAE-F091-4930-AEEF-2711E0DBF9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061-2919-4C7F-9F0D-E397D4F60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Arial"/>
              </a:rPr>
              <a:t>The Heimlich Maneuve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By: James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07400" y="4759200"/>
            <a:ext cx="195228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Important Notic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is information is not intended to be a substitute for professional medical advice.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146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264440" y="4991040"/>
            <a:ext cx="1879560" cy="1866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5022720"/>
            <a:ext cx="1841400" cy="183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0968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Introducti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re’s never a warning before a person gets an object caught in their throat and starts choking.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ortunately, they’re effective techniques to deal with this emerg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Heimlich Maneuver on Infant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838160" cy="134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469280" y="263520"/>
            <a:ext cx="146376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auses of 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lcohol and drug consumption (even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mall amount affects awarenes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mall objects swallowed by children (beads, toys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3840" y="169920"/>
            <a:ext cx="536400" cy="1895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2920" y="5257800"/>
            <a:ext cx="20066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686720" y="5029200"/>
            <a:ext cx="1457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Lack of Oxyg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thout oxygen the brain can begin to die within 4 to 6 minutes. 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y learning the Heimlich Maneuver-a simple life-saving technique-you may literally save the life of a choking vict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24560" y="5859360"/>
            <a:ext cx="1819440" cy="99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037120"/>
            <a:ext cx="1460520" cy="182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Heimlich Maneuv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t lifts the diaphragm and forces enough air from the lungs to remove the obstruct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17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67760" y="522756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58760" y="5210280"/>
            <a:ext cx="1743120" cy="1452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694640" y="0"/>
            <a:ext cx="14493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When Do I Use The Heimlic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person is grabbing the throat with the hand (the universal sign for choking)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 notice they are gagging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 hear a weak ineffective cough, noisy breathing, or high-pitched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person is starting to look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Choking"/>
          <p:cNvPicPr/>
          <p:nvPr/>
        </p:nvPicPr>
        <p:blipFill>
          <a:blip r:embed="rId1"/>
          <a:stretch/>
        </p:blipFill>
        <p:spPr>
          <a:xfrm>
            <a:off x="6172200" y="447984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5121360"/>
            <a:ext cx="1905120" cy="17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15200" y="2057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How To Do The Heimlich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92920" y="5581800"/>
            <a:ext cx="13510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Always Remember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ollowing the expulsion of the object, keep the victim still and get medical help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mplications can arise from the incident or from the measures that were tak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9280" cy="13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94360" y="4941720"/>
            <a:ext cx="1974960" cy="1698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4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7:05Z</dcterms:created>
  <dc:creator>770385</dc:creator>
  <dc:description/>
  <dc:language>en-US</dc:language>
  <cp:lastModifiedBy>770385</cp:lastModifiedBy>
  <dcterms:modified xsi:type="dcterms:W3CDTF">2008-10-31T15:35:41Z</dcterms:modified>
  <cp:revision>5</cp:revision>
  <dc:subject/>
  <dc:title>The Heimlich Maneuver</dc:title>
</cp:coreProperties>
</file>